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gif" ContentType="image/gif"/>
  <Override PartName="/ppt/media/image9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947A-883B-488C-92AC-234EEB774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781A-04BA-4230-9AFF-3671FC8F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0C60-A5CE-4AA3-8102-AB764E76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AEA6-8122-4CE0-9DE0-8CF48E67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3B24-9A64-4151-BABB-15AC3D1B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DC3D-7DF5-48D4-9A14-E6CFADC6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0D2B-4888-43C1-9883-3DDD7B61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5978-2EE3-4DE7-ACB7-A4A1B183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D40C-3B8C-4297-8307-D9CBEC24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E3A5-E2C6-47B6-9849-681005F8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5992-4E48-4D04-98EA-6BE9CCDF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D511-D529-4DC9-B310-80F8FB8D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E2D3-BE87-48FC-B69C-211B4864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0D27-3CB6-4272-BCB3-68CC392B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6E9D-F997-4C79-88C6-C0C8F6CD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116F-291F-4209-B2F1-6CEE53B4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56F1-7622-4CB5-8958-360C2EF23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483B8-3F69-4ECE-98E0-0C888E852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F335D-8FD8-43ED-A350-245D2BB9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9FBF7-68D5-48B4-B6CA-136DE12C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1709A-4391-4259-83C5-3E42ECC9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486D6-A4BF-4F78-88BB-FBF530CB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3F5D-A43B-4EA7-BB53-CA484541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7607D-57A2-495D-AD5B-5756CC9A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362B4-7CE9-446F-9E21-1AF222A9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5C23A-71E8-4083-A577-2E4307FF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63366-9C42-48F0-8961-7A8E1417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63C83-89C8-4232-B61F-7E7B794C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89595-D39F-4E65-A746-754C219F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B43F1-877D-4B12-8D73-B91E506A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A7F6-CE82-4253-952E-5C371A1E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BE41-1AD2-4E7C-A43A-F51ADB8C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CE91-0FCA-47B5-86B4-B18CE669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937C-EE18-49E1-A708-F4D5CE4F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15D2-E26D-4CB7-A8DC-3E48F57A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93F4-81BF-4104-9772-F5E4DE1A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2A38-46AF-4D57-8D28-57C4F0A742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CB88-7B1D-42B0-BD60-02984ACFE3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045A-57D5-423C-BD5D-2A8A1FFBA5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3784-32E7-4369-B413-45A19AE8D4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Fir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t out a pencil and your homework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lently complete the do first question on your handout. Stop before “The Water Cycle: Notes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rite down tonight’s homework assignment in your agend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ssign yourself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45720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Precipitation – water falls from clouds as rain, snow, sleet, or hail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Content Placeholder 4" descr=""/>
          <p:cNvPicPr/>
          <p:nvPr/>
        </p:nvPicPr>
        <p:blipFill>
          <a:blip r:embed="rId1"/>
          <a:srcRect l="8760" t="3367" r="1884" b="36023"/>
          <a:stretch/>
        </p:blipFill>
        <p:spPr>
          <a:xfrm>
            <a:off x="3429000" y="152280"/>
            <a:ext cx="5181480" cy="419112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4"/>
          <p:cNvSpPr/>
          <p:nvPr/>
        </p:nvSpPr>
        <p:spPr>
          <a:xfrm>
            <a:off x="2590920" y="26668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Evaporatio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5334120" y="13716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Condensatio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7467480" y="19051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cip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2286000" y="53352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The Su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Which picture best represents the process of evapora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Content Placeholder 3" descr=""/>
          <p:cNvPicPr/>
          <p:nvPr/>
        </p:nvPicPr>
        <p:blipFill>
          <a:blip r:embed="rId1"/>
          <a:srcRect l="613" t="5052" r="-881" b="0"/>
          <a:stretch/>
        </p:blipFill>
        <p:spPr>
          <a:xfrm>
            <a:off x="1523880" y="1752480"/>
            <a:ext cx="6096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2. How are clouds made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3. What is one type of precipitation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ter Cycle G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ter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Group 5"/>
          <p:cNvGrpSpPr/>
          <p:nvPr/>
        </p:nvGrpSpPr>
        <p:grpSpPr>
          <a:xfrm>
            <a:off x="914400" y="914400"/>
            <a:ext cx="8229600" cy="5334120"/>
            <a:chOff x="914400" y="914400"/>
            <a:chExt cx="8229600" cy="5334120"/>
          </a:xfrm>
        </p:grpSpPr>
        <p:pic>
          <p:nvPicPr>
            <p:cNvPr id="166" name="Picture 6" descr="http://www.coe.ilstu.edu/scienceed/basolo/water/cycle2.JPG"/>
            <p:cNvPicPr/>
            <p:nvPr/>
          </p:nvPicPr>
          <p:blipFill>
            <a:blip r:embed="rId1"/>
            <a:stretch/>
          </p:blipFill>
          <p:spPr>
            <a:xfrm>
              <a:off x="1022040" y="914400"/>
              <a:ext cx="7413840" cy="533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7" name="Group 7"/>
            <p:cNvGrpSpPr/>
            <p:nvPr/>
          </p:nvGrpSpPr>
          <p:grpSpPr>
            <a:xfrm>
              <a:off x="914400" y="1493280"/>
              <a:ext cx="8229600" cy="3127320"/>
              <a:chOff x="914400" y="1493280"/>
              <a:chExt cx="8229600" cy="3127320"/>
            </a:xfrm>
          </p:grpSpPr>
          <p:sp>
            <p:nvSpPr>
              <p:cNvPr id="168" name="Rectangle 8"/>
              <p:cNvSpPr/>
              <p:nvPr/>
            </p:nvSpPr>
            <p:spPr>
              <a:xfrm>
                <a:off x="914400" y="1493280"/>
                <a:ext cx="2815200" cy="49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9"/>
              <p:cNvSpPr/>
              <p:nvPr/>
            </p:nvSpPr>
            <p:spPr>
              <a:xfrm>
                <a:off x="6328800" y="1652040"/>
                <a:ext cx="2815200" cy="590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0"/>
              <p:cNvSpPr/>
              <p:nvPr/>
            </p:nvSpPr>
            <p:spPr>
              <a:xfrm>
                <a:off x="4307400" y="4030200"/>
                <a:ext cx="3537000" cy="590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Rectangle 13"/>
          <p:cNvSpPr/>
          <p:nvPr/>
        </p:nvSpPr>
        <p:spPr>
          <a:xfrm>
            <a:off x="4572000" y="533520"/>
            <a:ext cx="1066680" cy="38088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6172200" y="1447920"/>
            <a:ext cx="1143000" cy="30456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3733920" y="3809880"/>
            <a:ext cx="1066680" cy="22860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6248520" y="3733920"/>
            <a:ext cx="914400" cy="30456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4" descr="swatercycle1"/>
          <p:cNvPicPr/>
          <p:nvPr/>
        </p:nvPicPr>
        <p:blipFill>
          <a:blip r:embed="rId1"/>
          <a:stretch/>
        </p:blipFill>
        <p:spPr>
          <a:xfrm>
            <a:off x="574560" y="609480"/>
            <a:ext cx="7731360" cy="57834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685800" y="609480"/>
            <a:ext cx="4724280" cy="60984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7772400" y="380880"/>
            <a:ext cx="533520" cy="45720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638680" y="5867280"/>
            <a:ext cx="533520" cy="457200"/>
          </a:xfrm>
          <a:prstGeom prst="rect">
            <a:avLst/>
          </a:prstGeom>
          <a:solidFill>
            <a:srgbClr val="00009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5" descr="Watercycle"/>
          <p:cNvPicPr/>
          <p:nvPr/>
        </p:nvPicPr>
        <p:blipFill>
          <a:blip r:embed="rId1"/>
          <a:stretch/>
        </p:blipFill>
        <p:spPr>
          <a:xfrm>
            <a:off x="380880" y="1236600"/>
            <a:ext cx="8305920" cy="56214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6"/>
          <p:cNvSpPr/>
          <p:nvPr/>
        </p:nvSpPr>
        <p:spPr>
          <a:xfrm>
            <a:off x="6629400" y="2438280"/>
            <a:ext cx="11430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762120" y="2286000"/>
            <a:ext cx="99036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6629400" y="5867280"/>
            <a:ext cx="1295280" cy="304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685800" y="4876920"/>
            <a:ext cx="121932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457200" y="2666880"/>
            <a:ext cx="1828800" cy="38124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6172200" y="1219320"/>
            <a:ext cx="1752480" cy="38088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2895480" y="2819520"/>
            <a:ext cx="1905120" cy="30456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248520" y="2743200"/>
            <a:ext cx="1828800" cy="38088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324480" y="4343400"/>
            <a:ext cx="1676520" cy="45720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7772400" y="1143000"/>
            <a:ext cx="88884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ter is always mov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5" descr="epa_water_cycle"/>
          <p:cNvPicPr/>
          <p:nvPr/>
        </p:nvPicPr>
        <p:blipFill>
          <a:blip r:embed="rId1"/>
          <a:stretch/>
        </p:blipFill>
        <p:spPr>
          <a:xfrm>
            <a:off x="2133720" y="1676520"/>
            <a:ext cx="5562360" cy="49226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5562720" y="26668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4038480" y="4572000"/>
            <a:ext cx="1524240" cy="38088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4572000" y="1447920"/>
            <a:ext cx="1600200" cy="30456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533520" y="3733920"/>
            <a:ext cx="1523880" cy="45720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990720" y="1981080"/>
            <a:ext cx="1371600" cy="30492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ip your paper over and silently complete the independent pract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have a question, raise your h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finish early, complete the challenge se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gn yoursel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First and Obje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tivation – Water Cycle Song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 to New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ed Practice – Water Cycle G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pendent Practice - Hand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it Tick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work Assig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#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828800" y="1454040"/>
            <a:ext cx="563868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raw a picture of the water cycle.  Include evaporation, condensation, precipitation, and your energy sourc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 Creative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’s Big Ide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SWBAT explain how the Sun and ocean interact in the water cycle.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ter Cycle So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Evaporation, condensation, precipitation falling dow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ese are all parts of the water cycle and it goes on round and roun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- States of 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What are the 3 states of matter?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The Sun - the source of energy that causes the water cyc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Content Placeholder 4" descr=""/>
          <p:cNvPicPr/>
          <p:nvPr/>
        </p:nvPicPr>
        <p:blipFill>
          <a:blip r:embed="rId1"/>
          <a:srcRect l="8760" t="3367" r="1884" b="36023"/>
          <a:stretch/>
        </p:blipFill>
        <p:spPr>
          <a:xfrm>
            <a:off x="3429000" y="0"/>
            <a:ext cx="5181480" cy="41911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2590920" y="251460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__________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334120" y="121932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__________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7467480" y="1752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2286000" y="3808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The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42670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Evaporation – water gets warm and changes from a liquid to a gas called water vap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Content Placeholder 4" descr=""/>
          <p:cNvPicPr/>
          <p:nvPr/>
        </p:nvPicPr>
        <p:blipFill>
          <a:blip r:embed="rId1"/>
          <a:srcRect l="8760" t="3367" r="1884" b="36023"/>
          <a:stretch/>
        </p:blipFill>
        <p:spPr>
          <a:xfrm>
            <a:off x="3429000" y="76320"/>
            <a:ext cx="5181480" cy="41907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4"/>
          <p:cNvSpPr/>
          <p:nvPr/>
        </p:nvSpPr>
        <p:spPr>
          <a:xfrm>
            <a:off x="2590920" y="259092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Evaporatio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5334120" y="12952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__________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7467480" y="1828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2286000" y="45720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The Su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1. What do scientists call water changing from a liquid to a gas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2. What causes evaporation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920" y="42670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Condensation – water cools down and changes from a gas into a liquid and forms clouds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Content Placeholder 4" descr=""/>
          <p:cNvPicPr/>
          <p:nvPr/>
        </p:nvPicPr>
        <p:blipFill>
          <a:blip r:embed="rId1"/>
          <a:srcRect l="8760" t="3367" r="1884" b="36023"/>
          <a:stretch/>
        </p:blipFill>
        <p:spPr>
          <a:xfrm>
            <a:off x="3429000" y="152280"/>
            <a:ext cx="5181480" cy="41911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4"/>
          <p:cNvSpPr/>
          <p:nvPr/>
        </p:nvSpPr>
        <p:spPr>
          <a:xfrm>
            <a:off x="2590920" y="26668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Evaporatio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5334120" y="137160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Condensatio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7467480" y="19051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286000" y="53352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The Su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15:33:43Z</dcterms:created>
  <dc:creator>vdbwahoo</dc:creator>
  <dc:description/>
  <dc:language>en-US</dc:language>
  <cp:lastModifiedBy>Caroline Roth</cp:lastModifiedBy>
  <dcterms:modified xsi:type="dcterms:W3CDTF">2011-05-23T22:48:14Z</dcterms:modified>
  <cp:revision>52</cp:revision>
  <dc:subject/>
  <dc:title>The Water Cycle</dc:title>
</cp:coreProperties>
</file>